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EAD-FB7A-4AC0-8B10-697F5A45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ADE-9895-48B9-824F-9795C35C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7E7-2B7D-4234-9921-CF069758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4A0-EE5C-4837-9728-CE51261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F43-28E0-408C-AA6F-6A8A2EBE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1A27-580B-47A3-BCC0-A88D5A8B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2489-4E61-4B03-A0D1-402AC98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E805-FE07-4DC6-A3B3-511C4821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8A4-108A-4869-A3AE-9DA2C0F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E94-D600-448E-BA04-0C845D54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D278-72BC-48A9-A110-742DEF1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B14-5FF4-4E8B-A090-B77DC96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4ED-BBEA-49BF-9F37-BAF7E5D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8FE8-C32A-483F-9C55-317C901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4033-233B-4004-84E4-555FEBC4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5A2-1241-4336-9534-9A6480EE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27D4-188C-4623-8914-3BA3C124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E40-A72D-41E7-AD01-7AD45684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715-33B1-4DFC-8A49-D442F23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7BE-5E83-483F-A63E-3AE8C6F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6D7-1D71-4DB0-9F64-7ED01E73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7A1-B36C-42CC-9501-7304A90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FE1-B5F9-44BC-8ABC-FE44942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E40-679B-4EE4-97E4-FEEB686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45E-1D00-473A-AFAE-B45B1046231E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B98-9F71-4AB2-BF29-45E4DF616E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B79-9AEA-4416-8ABC-135BE73B64A7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4AC-0D2A-4FA4-A04E-1FFFAD9C14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llbio.utmb.edu/cellbio/filam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Cell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48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AD1D-D3D4-4433-B8EF-0BBEB198EF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283393-D3E7-43C4-A2A2-8D6E3BF4B14E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lycolipids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outside of cel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ar groups projecting into the extracellular space (</a:t>
            </a:r>
            <a:r>
              <a:rPr b="0" i="1" lang="en-US" sz="2800" spc="-1" strike="noStrike">
                <a:solidFill>
                  <a:srgbClr val="6699ff"/>
                </a:solidFill>
                <a:latin typeface="Tahoma"/>
              </a:rPr>
              <a:t>blue col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rotective, insulators, and sites of receptor binding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commun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759120"/>
            <a:ext cx="60195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CFD-A646-46AF-9700-E50A0F0B40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C5550-0293-4068-8555-304CFB3EE0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ount of cholesterol may vary with the type of membr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 membranes have nearly one cholesterol per phospholipid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mbran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ike those around bacteria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no choleste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holesterol.jpg (33106 bytes)"/>
          <p:cNvPicPr/>
          <p:nvPr/>
        </p:nvPicPr>
        <p:blipFill>
          <a:blip r:embed="rId1"/>
          <a:stretch/>
        </p:blipFill>
        <p:spPr>
          <a:xfrm>
            <a:off x="5943600" y="1676520"/>
            <a:ext cx="2971800" cy="29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7AB-46EB-478C-9008-1AFA643C52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33669-4E4B-430E-A163-83DF570376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obilize the top part of the phospholipid molecu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the lipid bilayer less deformable and decreases its permeability to small water-soluble molecu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cholesterol (such as in a bacterium) a cell would need a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crystallization of hydrocarbons and phase shifts in the membra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cholesterol.jpg (33106 bytes)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8DF-B3B8-40BF-A23F-BD1B89B347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D1457-B59F-45B9-8424-1B2AB6275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ssive Transpo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ll membrane is semi-perm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mosis or diff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lecules move freely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movement of water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AF9-3368-41F4-B157-B8E0BB5EFF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B3790-B704-48C4-8E49-656BC053F6F3}" type="datetime1">
              <a:rPr lang="en-US"/>
              <a:t>07/29/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ilitated Diffu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30240" y="2125800"/>
            <a:ext cx="685800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of molecules across the membrane with the help of membrane protei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ecules move along a concentration grad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from an area of greater concentration to less concen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example: The movement of gluco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facdifan.gif - 30.3 K"/>
          <p:cNvPicPr/>
          <p:nvPr/>
        </p:nvPicPr>
        <p:blipFill>
          <a:blip r:embed="rId1"/>
          <a:stretch/>
        </p:blipFill>
        <p:spPr>
          <a:xfrm>
            <a:off x="3809880" y="5334120"/>
            <a:ext cx="32767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4FE-9A33-4B0B-BD50-3038AF55B8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F8273-0ED7-4730-B907-0842B551B7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tive 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ation across the membrane that requires the use of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s molecules from an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w concentr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 high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Transport through the membrane"/>
          <p:cNvPicPr/>
          <p:nvPr/>
        </p:nvPicPr>
        <p:blipFill>
          <a:blip r:embed="rId1"/>
          <a:stretch/>
        </p:blipFill>
        <p:spPr>
          <a:xfrm>
            <a:off x="2590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ovement from low to high concentrations"/>
          <p:cNvPicPr/>
          <p:nvPr/>
        </p:nvPicPr>
        <p:blipFill>
          <a:blip r:embed="rId2"/>
          <a:stretch/>
        </p:blipFill>
        <p:spPr>
          <a:xfrm>
            <a:off x="56386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891-CA1B-497A-963F-2DDA5DD05B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67012-632E-464D-8455-0AEA167FF9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re cells so smal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s are limited in how large they can b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er cells provide a larger surface area to volume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easier for a small cell to pass materials in and out of the membrane, and to move materials through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cell becomes too big, it will divide or di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155-9742-41FF-9993-3B9AE62F1F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408BE-CA44-470A-AEEF-6C7168D14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rface Area to Volume co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983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89000" y="2400480"/>
            <a:ext cx="669780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35C-F171-48A4-BDD6-5982757D8E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A703E-1357-4F1B-A71E-71F1D19222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b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transportation moved the potassium permanganate into the cells of the pota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it active or passive transpo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know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urface area and volume ratios, which of the three different sized potatoes should have had the most diffu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is match your resul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394-F055-4046-B0CF-B46555DA87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F9EFD-F47B-41E9-97B8-29600D02B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is the cell membran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utermost lining of a c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internal from the external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boundary in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 have a rigi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ell wall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952880" cy="20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879-8A9F-47F4-A8FE-7ADA4C85C5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63B8D-6D16-476F-87CF-E109F62ADDD8}" type="datetime1">
              <a:rPr lang="en-US"/>
              <a:t>07/29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are membranes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16160" y="1851120"/>
            <a:ext cx="729288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 transport of substances into and out of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for cell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choring sites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ytoskeletal fila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components of the extracellular matri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stable site for the binding of enzy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passageway across the membrane for certain molecu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45F-5422-4111-B277-915685123D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70CE0-1E7E-41EF-8DAA-E4189686F6A3}" type="datetime1">
              <a:rPr lang="en-US"/>
              <a:t>07/29/26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Knowled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 &amp; D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0-4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two layers of lip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co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open gaps – “por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DDmodel.jpg (24594 bytes)"/>
          <p:cNvPicPr/>
          <p:nvPr/>
        </p:nvPicPr>
        <p:blipFill>
          <a:blip r:embed="rId1"/>
          <a:stretch/>
        </p:blipFill>
        <p:spPr>
          <a:xfrm>
            <a:off x="457200" y="4183200"/>
            <a:ext cx="3809880" cy="236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Robertson.jpg (25707 bytes)"/>
          <p:cNvPicPr/>
          <p:nvPr/>
        </p:nvPicPr>
        <p:blipFill>
          <a:blip r:embed="rId2"/>
          <a:stretch/>
        </p:blipFill>
        <p:spPr>
          <a:xfrm>
            <a:off x="4876920" y="4118040"/>
            <a:ext cx="3733560" cy="2435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24280" y="1447920"/>
            <a:ext cx="4191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OBERTSO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95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ated with a glycoprotein cov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 Large open gaps – “por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ED1-4620-4B40-B231-05DA566F2A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EC0EA-C245-4195-BD0C-D24CB5D52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uid Mosaic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7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er and Nichol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s function in two dimen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lecules can rotate and move laterally (no flip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s embedded randomly (a mosa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4AA-6BA2-427F-8691-4640F955E4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C9EBD-BCDD-4873-BAA9-8B237E1F2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is the membrane construc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mbles a railroad track, otherwise known as a fluid mosa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ayers of phospholi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ittent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 to lip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 varies by cell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41911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237-73E8-46D3-BC37-603FD541BA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ADD5-462B-4CDC-8AC7-8E0F2A4326A8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hospholipid Bi-lay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phipath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ilic” polar heads pointing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obic” portion forming the c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luid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molecules are in constant 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200484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56006" r="0" b="0"/>
          <a:stretch/>
        </p:blipFill>
        <p:spPr>
          <a:xfrm>
            <a:off x="3505320" y="4191120"/>
            <a:ext cx="426708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285-0D64-4420-A8D2-303B569FE2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F6E64-A443-48D4-BD2A-8FF3FFF94000}" type="datetime1">
              <a:rPr lang="en-US"/>
              <a:t>07/29/26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Key Parts to the Plasma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1560" y="1851120"/>
            <a:ext cx="72882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embrane protein and Peripheral Prote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uring active transport of particles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zes cell sh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ell membrane Fluid mosaic model"/>
          <p:cNvPicPr/>
          <p:nvPr/>
        </p:nvPicPr>
        <p:blipFill>
          <a:blip r:embed="rId1"/>
          <a:stretch/>
        </p:blipFill>
        <p:spPr>
          <a:xfrm>
            <a:off x="5486400" y="4191120"/>
            <a:ext cx="278928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3D3-EB95-4844-AEA9-F4C392C9FE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947F-05DA-46B3-A86D-9FC68F4A2D3D}" type="datetime1">
              <a:rPr lang="en-US"/>
              <a:t>07/29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ransmembrane Prot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 decrease the surface tension and allow for flexibility in the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48360" cy="30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962160" cy="25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E6D-C923-4AB8-BCA7-B4F8DFF816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B3E06-82F5-4EBF-930A-3517998E4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connor</cp:lastModifiedBy>
  <dcterms:modified xsi:type="dcterms:W3CDTF">2008-10-26T14:11:34Z</dcterms:modified>
  <cp:revision>10</cp:revision>
  <dc:subject/>
  <dc:title>PowerPoint Presentation</dc:title>
</cp:coreProperties>
</file>